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8.jpeg" ContentType="image/jpe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8D49-F5AD-4415-A0F7-5CBB5A38B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945E-51FE-4AFA-A00F-7D4B0BF99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E2F0-544F-4989-ACE3-D8B36EE65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B2AD-875A-4B0C-97D2-7B819F499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00D3-BF0A-4447-9385-D832DD344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8A66-A4AF-450A-8727-7662C4B4C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0304-F43B-4307-867F-1F95DD207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17D5-CD59-4277-B593-D92F0AF05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9835-B188-4F5B-B9F4-B90726945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2E05-32A1-453A-8030-4291692FC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D278-D6C8-4AA1-86C9-69E271BEF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7183-B4E9-4C00-A267-3318A3A11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7C01C-E53C-4472-9A7B-0B4A2D7F10C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&#30002;&#28919;&#30340;&#23384;&#22312;.htm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066680" y="2666880"/>
            <a:ext cx="70866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燃料的合理利用与开发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024360" y="0"/>
            <a:ext cx="6119640" cy="6669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96960" y="430200"/>
            <a:ext cx="45864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346040" y="503280"/>
            <a:ext cx="4590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76240" y="1773360"/>
            <a:ext cx="14000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Comic Sans MS"/>
              </a:rPr>
              <a:t>以石油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Comic Sans MS"/>
              </a:rPr>
              <a:t>原料所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Comic Sans MS"/>
              </a:rPr>
              <a:t>成的部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Comic Sans MS"/>
              </a:rPr>
              <a:t>产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14600" cy="42861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599280" y="0"/>
            <a:ext cx="4300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城镇的许多家庭做饭使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罐装“煤气”，是液化石油气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是石油化工产品。液化石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气是经过加压后压缩到钢瓶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，瓶内的压强是大气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7-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743200" y="327672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08080" y="4267080"/>
            <a:ext cx="505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１．石油可直接用作燃料吗？石油产品中有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些是常用的燃料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548640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２．煤气泄漏会造成什么危害？石油罐装液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石油气在安全上应注意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590920" y="3124080"/>
            <a:ext cx="2066760" cy="91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讨论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57200" y="152280"/>
            <a:ext cx="3352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天然气</a:t>
            </a:r>
            <a:endParaRPr b="0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95" name=""/>
          <p:cNvSpPr/>
          <p:nvPr/>
        </p:nvSpPr>
        <p:spPr>
          <a:xfrm>
            <a:off x="1860840" y="1295280"/>
            <a:ext cx="484416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天然气主要是由碳和氢组成的气态化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物，其中主要的是甲烷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>
            <a:hlinkClick r:id="rId1"/>
          </p:cNvPr>
          <p:cNvSpPr/>
          <p:nvPr/>
        </p:nvSpPr>
        <p:spPr>
          <a:xfrm>
            <a:off x="304920" y="2514600"/>
            <a:ext cx="54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2e06"/>
                </a:solidFill>
                <a:latin typeface="Comic Sans MS"/>
              </a:rPr>
              <a:t>1</a:t>
            </a:r>
            <a:r>
              <a:rPr b="1" lang="zh-CN" sz="3600" spc="-1" strike="noStrike">
                <a:solidFill>
                  <a:srgbClr val="c02e06"/>
                </a:solidFill>
                <a:latin typeface="Comic Sans MS"/>
              </a:rPr>
              <a:t>、甲烷的物理性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88360" y="3581280"/>
            <a:ext cx="253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Comic Sans MS"/>
              </a:rPr>
              <a:t>①</a:t>
            </a:r>
            <a:r>
              <a:rPr b="1" lang="zh-CN" sz="3600" spc="-1" strike="noStrike">
                <a:solidFill>
                  <a:srgbClr val="009999"/>
                </a:solidFill>
                <a:latin typeface="Comic Sans MS"/>
              </a:rPr>
              <a:t>通常状况下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无</a:t>
            </a:r>
            <a:r>
              <a:rPr b="1" lang="zh-CN" sz="3600" spc="-1" strike="noStrike">
                <a:solidFill>
                  <a:srgbClr val="009999"/>
                </a:solidFill>
                <a:latin typeface="Comic Sans MS"/>
              </a:rPr>
              <a:t>色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Comic Sans MS"/>
              </a:rPr>
              <a:t>　无气味气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Comic Sans MS"/>
              </a:rPr>
              <a:t>②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难</a:t>
            </a:r>
            <a:r>
              <a:rPr b="1" lang="zh-CN" sz="3600" spc="-1" strike="noStrike">
                <a:solidFill>
                  <a:srgbClr val="009999"/>
                </a:solidFill>
                <a:latin typeface="Comic Sans MS"/>
              </a:rPr>
              <a:t>溶于水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Comic Sans MS"/>
              </a:rPr>
              <a:t>③</a:t>
            </a:r>
            <a:r>
              <a:rPr b="1" lang="zh-CN" sz="3600" spc="-1" strike="noStrike">
                <a:solidFill>
                  <a:srgbClr val="009999"/>
                </a:solidFill>
                <a:latin typeface="Comic Sans MS"/>
              </a:rPr>
              <a:t>比空气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46520" y="3273480"/>
            <a:ext cx="4497480" cy="35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5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345480" y="620640"/>
            <a:ext cx="890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、甲烷的化学性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27120" y="2209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39400" y="1413000"/>
            <a:ext cx="5362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[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演示实验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5-12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点燃纯净的甲烷气体，观察火焰的颜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71480" y="3938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278136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</a:rPr>
              <a:t>可燃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9280" y="5084640"/>
            <a:ext cx="9225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注意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：在点燃甲烷前也要检验纯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甲烷的</a:t>
            </a: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爆炸极限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为：</a:t>
            </a:r>
            <a:r>
              <a:rPr b="1" lang="en-US" sz="4400" spc="-1" strike="noStrike">
                <a:solidFill>
                  <a:srgbClr val="000000"/>
                </a:solidFill>
                <a:latin typeface="隶书"/>
                <a:ea typeface="隶书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-</a:t>
            </a:r>
            <a:r>
              <a:rPr b="1" lang="en-US" sz="4400" spc="-1" strike="noStrike">
                <a:solidFill>
                  <a:srgbClr val="000000"/>
                </a:solidFill>
                <a:latin typeface="隶书"/>
                <a:ea typeface="隶书"/>
              </a:rPr>
              <a:t>15%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之间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349880" y="4267080"/>
            <a:ext cx="479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（明亮并呈</a:t>
            </a:r>
            <a:r>
              <a:rPr b="1" lang="zh-CN" sz="4000" spc="-1" strike="noStrike">
                <a:solidFill>
                  <a:srgbClr val="0066ff"/>
                </a:solidFill>
                <a:latin typeface="Verdana"/>
              </a:rPr>
              <a:t>蓝色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638360" y="3284640"/>
            <a:ext cx="6044040" cy="931680"/>
            <a:chOff x="1638360" y="3284640"/>
            <a:chExt cx="6044040" cy="931680"/>
          </a:xfrm>
        </p:grpSpPr>
        <p:sp>
          <p:nvSpPr>
            <p:cNvPr id="107" name=""/>
            <p:cNvSpPr/>
            <p:nvPr/>
          </p:nvSpPr>
          <p:spPr>
            <a:xfrm>
              <a:off x="1638360" y="3429000"/>
              <a:ext cx="604404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Verdana"/>
                </a:rPr>
                <a:t>CH</a:t>
              </a:r>
              <a:r>
                <a:rPr b="1" lang="en-US" sz="4000" spc="-1" strike="noStrike" baseline="-25000">
                  <a:solidFill>
                    <a:srgbClr val="000000"/>
                  </a:solidFill>
                  <a:latin typeface="Verdana"/>
                </a:rPr>
                <a:t>4</a:t>
              </a:r>
              <a:r>
                <a:rPr b="1" lang="en-US" sz="4000" spc="-1" strike="noStrike">
                  <a:solidFill>
                    <a:srgbClr val="000000"/>
                  </a:solidFill>
                  <a:latin typeface="Verdana"/>
                </a:rPr>
                <a:t> + 2O</a:t>
              </a:r>
              <a:r>
                <a:rPr b="1" lang="en-US" sz="4000" spc="-1" strike="noStrike" baseline="-25000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1" lang="en-US" sz="4000" spc="-1" strike="noStrike">
                  <a:solidFill>
                    <a:srgbClr val="000000"/>
                  </a:solidFill>
                  <a:latin typeface="Verdana"/>
                </a:rPr>
                <a:t>===CO</a:t>
              </a:r>
              <a:r>
                <a:rPr b="1" lang="en-US" sz="4000" spc="-1" strike="noStrike" baseline="-25000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1" lang="en-US" sz="4000" spc="-1" strike="noStrike">
                  <a:solidFill>
                    <a:srgbClr val="000000"/>
                  </a:solidFill>
                  <a:latin typeface="Verdana"/>
                </a:rPr>
                <a:t> + 2H</a:t>
              </a:r>
              <a:r>
                <a:rPr b="1" lang="en-US" sz="4000" spc="-1" strike="noStrike" baseline="-25000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1" lang="en-US" sz="4000" spc="-1" strike="noStrike">
                  <a:solidFill>
                    <a:srgbClr val="000000"/>
                  </a:solidFill>
                  <a:latin typeface="Verdana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212360" y="3284640"/>
              <a:ext cx="82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Verdana"/>
                </a:rPr>
                <a:t>点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horz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776600" y="260280"/>
            <a:ext cx="4752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Verdana"/>
              </a:rPr>
              <a:t>甲烷是最重要的矿物燃料，我国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Verdana"/>
              </a:rPr>
              <a:t>最早利用天然气的国家。在明朝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Verdana"/>
              </a:rPr>
              <a:t>有记载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116000" y="2133720"/>
            <a:ext cx="6985080" cy="47242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527120" y="7700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73320" y="1981080"/>
            <a:ext cx="50576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化石燃料要经过数百万年才能形成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是不可再的生能源，人类目前大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开采，将使化石燃料最终被耗尽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因此人类应该考虑如何合理利用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石燃料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35120" y="122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108160" y="579600"/>
            <a:ext cx="50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Comic Sans MS"/>
              </a:rPr>
              <a:t>问题：化石燃料是不是取之不尽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035080" y="765000"/>
            <a:ext cx="50576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现代社会对能量的需求量越来越大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化学反应提供的能量己不能满足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类的需求。目前，人们正在利用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开发其他新能源，如太阳能、核能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风能、地热能和潮汐能等。这些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源的利用，不但可以部分解决化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能源面临耗尽的问题，还可以减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对环境的污染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352760" cy="4508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390920" y="2997360"/>
            <a:ext cx="4753080" cy="386064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4355640" y="765000"/>
            <a:ext cx="2341080" cy="703440"/>
            <a:chOff x="4355640" y="765000"/>
            <a:chExt cx="2341080" cy="703440"/>
          </a:xfrm>
        </p:grpSpPr>
        <p:sp>
          <p:nvSpPr>
            <p:cNvPr id="119" name=""/>
            <p:cNvSpPr/>
            <p:nvPr/>
          </p:nvSpPr>
          <p:spPr>
            <a:xfrm>
              <a:off x="5601600" y="765000"/>
              <a:ext cx="1095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Comic Sans MS"/>
                </a:rPr>
                <a:t>太阳能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4355640" y="1125360"/>
              <a:ext cx="863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828800" y="5410080"/>
            <a:ext cx="2383920" cy="703440"/>
            <a:chOff x="1828800" y="5410080"/>
            <a:chExt cx="2383920" cy="703440"/>
          </a:xfrm>
        </p:grpSpPr>
        <p:sp>
          <p:nvSpPr>
            <p:cNvPr id="122" name=""/>
            <p:cNvSpPr/>
            <p:nvPr/>
          </p:nvSpPr>
          <p:spPr>
            <a:xfrm>
              <a:off x="3226680" y="5841720"/>
              <a:ext cx="986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828800" y="5410080"/>
              <a:ext cx="1374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Comic Sans MS"/>
                </a:rPr>
                <a:t>风能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39080" cy="636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810400" y="0"/>
            <a:ext cx="3333600" cy="42861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498720" y="-36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可燃冰燃烧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20080" y="2378520"/>
            <a:ext cx="44319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可燃冰的学名为“天然气水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物”，是天然气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大气压的作用下结晶而成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冰块”。“冰块”里甲烷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9.9%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可直接点燃，燃烧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几乎不产生任何残渣，污染比煤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石油、天然气都要小得多。西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学者称其为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世纪能源”或“未来能源”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457200"/>
            <a:ext cx="51814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可燃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937160" y="1928880"/>
            <a:ext cx="484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生活中经常使用的燃料有煤、石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和天然气，我们常称它们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化石燃料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830600" y="3581280"/>
            <a:ext cx="5209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因为它们都是由古代生物的遗骸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系列复杂变化而形成的。化石燃料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可再生能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80880" y="457200"/>
            <a:ext cx="41911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化石燃料</a:t>
            </a:r>
            <a:endParaRPr b="0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57200" y="852120"/>
            <a:ext cx="84582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立方米这种可燃冰燃烧，相当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6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立方米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天然气燃烧所产生的热值。据粗略估算，在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壳浅部，可燃冰储层中所含的有机碳总量，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约是全球石油、天然气和煤等化石燃料含碳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两倍，海底可燃冰的储量够人类使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762560" y="3885120"/>
            <a:ext cx="5666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据专家估计，全世界石油总储量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7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亿吨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5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亿吨之间。按照目前的消耗速度，再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，全世界的石油资源将消耗殆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可燃冰的发现，让陷入能源危机的人类看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新希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994760" y="1064160"/>
            <a:ext cx="562752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然而要从海底将这些东西发掘出来，却并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易事。科学家们认为，这种矿藏哪怕受到最小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破坏，甚至是自然的破坏，就足以导致甲烷气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大量散失，从而使大气中的温室气体含量急剧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加，它所产生的后果将是不堪设想的。世纪之交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一座新能源的宝库面前，人们不得不审慎从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谁能肯定它不是潘朵拉的盒子？万一打开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就关不上了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57200" y="22860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二、化学反应中的能量变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828080" y="1219320"/>
            <a:ext cx="4935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化学反应在生成新物质的同时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还伴随着能量的变化，而能量的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化通常表现热量的变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639440" y="2895480"/>
            <a:ext cx="4193640" cy="1258920"/>
            <a:chOff x="1639440" y="2895480"/>
            <a:chExt cx="4193640" cy="1258920"/>
          </a:xfrm>
        </p:grpSpPr>
        <p:sp>
          <p:nvSpPr>
            <p:cNvPr id="135" name=""/>
            <p:cNvSpPr/>
            <p:nvPr/>
          </p:nvSpPr>
          <p:spPr>
            <a:xfrm>
              <a:off x="1639440" y="3124080"/>
              <a:ext cx="4193640" cy="10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C + O</a:t>
              </a:r>
              <a:r>
                <a:rPr b="1" lang="en-US" sz="4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         CO</a:t>
              </a:r>
              <a:r>
                <a:rPr b="1" lang="en-US" sz="5400" spc="-1" strike="noStrike" baseline="-25000">
                  <a:solidFill>
                    <a:srgbClr val="000000"/>
                  </a:solidFill>
                  <a:latin typeface="Arial"/>
                </a:rPr>
                <a:t>2 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429000" y="342900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438360" y="358128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706560" y="289548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点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6666120" y="3200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放热反应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95960" y="3733920"/>
            <a:ext cx="4120200" cy="1002960"/>
            <a:chOff x="1695960" y="3733920"/>
            <a:chExt cx="4120200" cy="1002960"/>
          </a:xfrm>
        </p:grpSpPr>
        <p:sp>
          <p:nvSpPr>
            <p:cNvPr id="141" name=""/>
            <p:cNvSpPr/>
            <p:nvPr/>
          </p:nvSpPr>
          <p:spPr>
            <a:xfrm>
              <a:off x="1695960" y="3949560"/>
              <a:ext cx="412020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40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pl-PL" sz="4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pl-PL" sz="4000" spc="-1" strike="noStrike">
                  <a:solidFill>
                    <a:srgbClr val="000000"/>
                  </a:solidFill>
                  <a:latin typeface="Arial"/>
                </a:rPr>
                <a:t> + C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===</a:t>
              </a:r>
              <a:r>
                <a:rPr b="1" lang="pl-PL" sz="4000" spc="-1" strike="noStrike">
                  <a:solidFill>
                    <a:srgbClr val="000000"/>
                  </a:solidFill>
                  <a:latin typeface="Arial"/>
                </a:rPr>
                <a:t> 2C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17800" y="37339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Comic Sans MS"/>
                </a:rPr>
                <a:t>高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6742440" y="38862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吸热反应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76560" y="4952880"/>
            <a:ext cx="505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目前，人类通过化学反应获得的能量，大多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于化石燃料，由于资源有限，因此要控制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烧反应，提高燃料的利用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8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9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392200" y="3075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908000" y="2060640"/>
            <a:ext cx="532800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宋体"/>
              </a:rPr>
              <a:t>谢谢指导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宋体"/>
              <a:ea typeface="宋体"/>
            </a:endParaRPr>
          </a:p>
        </p:txBody>
      </p:sp>
    </p:spTree>
  </p:cSld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4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687120" y="2057400"/>
            <a:ext cx="1704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Comic Sans MS"/>
              </a:rPr>
              <a:t>1</a:t>
            </a:r>
            <a:r>
              <a:rPr b="1" lang="zh-CN" sz="4000" spc="-1" strike="noStrike">
                <a:solidFill>
                  <a:srgbClr val="009999"/>
                </a:solidFill>
                <a:latin typeface="Comic Sans MS"/>
              </a:rPr>
              <a:t>、煤的形成及其组成的主要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Comic Sans MS"/>
              </a:rPr>
              <a:t>素是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63480" y="19940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19360" y="3733920"/>
            <a:ext cx="5788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隶书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隶书"/>
              </a:rPr>
              <a:t>煤是由古代植物遗体埋在地层下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隶书"/>
              </a:rPr>
              <a:t>并在地壳中经过一系列非常复杂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隶书"/>
              </a:rPr>
              <a:t>变化而形成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03480" y="4822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33520" y="609480"/>
            <a:ext cx="4114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煤和石油</a:t>
            </a:r>
            <a:endParaRPr b="0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527120" y="4154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3456000" y="3500280"/>
          <a:ext cx="5688000" cy="335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56000" y="3500280"/>
                    <a:ext cx="5688000" cy="33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950760" y="4096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0" y="-241200"/>
          <a:ext cx="8280360" cy="369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-241200"/>
                    <a:ext cx="8280360" cy="36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228600" y="350532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其主要成 分是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碳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元素，还含有少量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等元素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无机矿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5867280"/>
            <a:ext cx="518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煤是复杂的混合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609480"/>
            <a:ext cx="6515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Comic Sans MS"/>
              </a:rPr>
              <a:t>焦炭</a:t>
            </a:r>
            <a:r>
              <a:rPr b="1" lang="en-US" sz="4000" spc="-1" strike="noStrike">
                <a:solidFill>
                  <a:srgbClr val="009999"/>
                </a:solidFill>
                <a:latin typeface="Comic Sans MS"/>
              </a:rPr>
              <a:t>——</a:t>
            </a:r>
            <a:r>
              <a:rPr b="1" lang="zh-CN" sz="4000" spc="-1" strike="noStrike">
                <a:solidFill>
                  <a:srgbClr val="009999"/>
                </a:solidFill>
                <a:latin typeface="Comic Sans MS"/>
              </a:rPr>
              <a:t>冶金工业重要原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Comic Sans MS"/>
              </a:rPr>
              <a:t>煤焦油</a:t>
            </a:r>
            <a:r>
              <a:rPr b="1" lang="en-US" sz="4000" spc="-1" strike="noStrike">
                <a:solidFill>
                  <a:srgbClr val="009999"/>
                </a:solidFill>
                <a:latin typeface="Comic Sans MS"/>
              </a:rPr>
              <a:t>——</a:t>
            </a:r>
            <a:r>
              <a:rPr b="1" lang="zh-CN" sz="4000" spc="-1" strike="noStrike">
                <a:solidFill>
                  <a:srgbClr val="009999"/>
                </a:solidFill>
                <a:latin typeface="Comic Sans MS"/>
              </a:rPr>
              <a:t>化工原料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Comic Sans MS"/>
              </a:rPr>
              <a:t>煤气</a:t>
            </a:r>
            <a:r>
              <a:rPr b="1" lang="en-US" sz="4000" spc="-1" strike="noStrike">
                <a:solidFill>
                  <a:srgbClr val="009999"/>
                </a:solidFill>
                <a:latin typeface="Comic Sans MS"/>
              </a:rPr>
              <a:t>——</a:t>
            </a:r>
            <a:r>
              <a:rPr b="1" lang="zh-CN" sz="4000" spc="-1" strike="noStrike">
                <a:solidFill>
                  <a:srgbClr val="009999"/>
                </a:solidFill>
                <a:latin typeface="Comic Sans MS"/>
              </a:rPr>
              <a:t>燃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33520" y="914400"/>
            <a:ext cx="2089080" cy="1584360"/>
            <a:chOff x="533520" y="914400"/>
            <a:chExt cx="2089080" cy="1584360"/>
          </a:xfrm>
        </p:grpSpPr>
        <p:sp>
          <p:nvSpPr>
            <p:cNvPr id="60" name=""/>
            <p:cNvSpPr/>
            <p:nvPr/>
          </p:nvSpPr>
          <p:spPr>
            <a:xfrm>
              <a:off x="2262240" y="914400"/>
              <a:ext cx="360360" cy="1584360"/>
            </a:xfrm>
            <a:custGeom>
              <a:avLst/>
              <a:gdLst>
                <a:gd name="textAreaLeft" fmla="*/ 230400 w 360360"/>
                <a:gd name="textAreaRight" fmla="*/ 360720 w 360360"/>
                <a:gd name="textAreaTop" fmla="*/ 41040 h 1584360"/>
                <a:gd name="textAreaBottom" fmla="*/ 1543320 h 158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33520" y="1201680"/>
              <a:ext cx="1655640" cy="908640"/>
              <a:chOff x="533520" y="1201680"/>
              <a:chExt cx="1655640" cy="908640"/>
            </a:xfrm>
          </p:grpSpPr>
          <p:sp>
            <p:nvSpPr>
              <p:cNvPr id="62" name=""/>
              <p:cNvSpPr/>
              <p:nvPr/>
            </p:nvSpPr>
            <p:spPr>
              <a:xfrm>
                <a:off x="533520" y="1346040"/>
                <a:ext cx="69372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000000"/>
                    </a:solidFill>
                    <a:latin typeface="Comic Sans MS"/>
                  </a:rPr>
                  <a:t>煤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254240" y="1706400"/>
                <a:ext cx="934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399680" y="1201680"/>
                <a:ext cx="60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Comic Sans MS"/>
                  </a:rPr>
                  <a:t>干馏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"/>
          <p:cNvSpPr/>
          <p:nvPr/>
        </p:nvSpPr>
        <p:spPr>
          <a:xfrm>
            <a:off x="1129320" y="304812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煤气的主要成分为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48320" y="3352680"/>
            <a:ext cx="3809880" cy="27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氢气　　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甲烷　　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氧化碳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其他气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4267080"/>
            <a:ext cx="2971800" cy="253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374920" y="0"/>
            <a:ext cx="676908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758880" y="624240"/>
            <a:ext cx="850680" cy="46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99"/>
                </a:solidFill>
                <a:latin typeface="Comic Sans MS"/>
              </a:rPr>
              <a:t>煤的综合利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311120" y="914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42920" y="486900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92240" y="3048120"/>
            <a:ext cx="4322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石油是由古代动植物遗体在地壳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经过 非常复杂的变化而形成的一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粘稠状液体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60040" y="1066680"/>
            <a:ext cx="1704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Comic Sans MS"/>
              </a:rPr>
              <a:t>2</a:t>
            </a:r>
            <a:r>
              <a:rPr b="1" lang="zh-CN" sz="4000" spc="-1" strike="noStrike">
                <a:solidFill>
                  <a:srgbClr val="009999"/>
                </a:solidFill>
                <a:latin typeface="Comic Sans MS"/>
              </a:rPr>
              <a:t>、石油的形成及其组成的主要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Comic Sans MS"/>
              </a:rPr>
              <a:t>素是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519120" y="6253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667480" cy="40006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03840" y="4299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751120" y="3938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66760" y="3722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940280" y="3200400"/>
            <a:ext cx="4203720" cy="34797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527120" y="3433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88920" y="4114800"/>
            <a:ext cx="4302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主要成分碳和氢两种元素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含有少量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等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也是混合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780000" y="0"/>
            <a:ext cx="514476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833400" y="-1208160"/>
            <a:ext cx="2374920" cy="88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给石油加热，组成石油的各物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的沸点不同，它们就会被先后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馏出来而得到分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User</cp:lastModifiedBy>
  <dcterms:modified xsi:type="dcterms:W3CDTF">2013-03-26T10:55:22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089</vt:lpwstr>
  </property>
  <property fmtid="{D5CDD505-2E9C-101B-9397-08002B2CF9AE}" pid="3" name="Version">
    <vt:r8>1</vt:r8>
  </property>
</Properties>
</file>